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326-407D-455F-87B3-570933CF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8BB-E8EC-45DA-AE8F-4D728B4B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45B-CFE2-4A80-8DF7-866F4073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1BD-8BAD-4914-A2B6-27052A10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2F08-61CF-43A8-8B28-5BE134AF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B00-655B-45E6-9334-58EBD8C8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0DA0-87A2-4134-9559-E4EE13CE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2E8-1C7B-4077-9944-CC2B0B17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40F-0361-4277-A100-8A7E04A0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14B-A81D-4366-913B-2FAE07B6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7564-C758-4E31-B66D-0280F13E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223-B843-4BC1-A1E7-204AE593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FFDA-210A-4B14-85D8-5435C609A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inal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7125480"/>
            <a:ext cx="8229600" cy="159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primitives or box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consistent with you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consis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al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e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 Important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/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t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Week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/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y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Week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/Tex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Week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Week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s/Cam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ng/Compos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Modeling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 j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d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x 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ged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and B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tice or B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it Aqua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days 9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ends 9-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ra – no flash or trip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5T20:19:32Z</dcterms:created>
  <dc:creator>dpumedia</dc:creator>
  <dc:description/>
  <dc:language>en-US</dc:language>
  <cp:lastModifiedBy>ESedgwick</cp:lastModifiedBy>
  <dcterms:modified xsi:type="dcterms:W3CDTF">2003-05-07T22:41:57Z</dcterms:modified>
  <cp:revision>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92953322</vt:r8>
  </property>
  <property fmtid="{D5CDD505-2E9C-101B-9397-08002B2CF9AE}" pid="3" name="_AuthorEmail">
    <vt:lpwstr>ESedgwick@cti.depaul.edu</vt:lpwstr>
  </property>
  <property fmtid="{D5CDD505-2E9C-101B-9397-08002B2CF9AE}" pid="4" name="_AuthorEmailDisplayName">
    <vt:lpwstr>Sedgwick, Eric</vt:lpwstr>
  </property>
  <property fmtid="{D5CDD505-2E9C-101B-9397-08002B2CF9AE}" pid="5" name="_EmailSubject">
    <vt:lpwstr>please post - final project notes</vt:lpwstr>
  </property>
</Properties>
</file>