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28E-089B-4079-AC15-B2427B7E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D19-E026-4C40-BE7A-BE8733A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64B-EC5D-41A1-8A09-9DBA09B1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DDD-C606-4241-82A1-EBB72F43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938-FB3C-423E-8E6D-B131A9CC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143-52EE-4925-8446-ABAB7D1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0DB-3243-46EF-9526-3FE0754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8E1-E3B8-46B8-8177-0BEB06EE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B26-29E8-478B-A6B4-1A8522C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D5B-1068-4131-BF98-29E59EC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BC6-0519-4140-BF32-411EAC6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5E4-67CC-4BD2-918A-6FBF5D7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9447-BA2F-4721-898B-D9BB1574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Modeling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ggy 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958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lassic character to study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9364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Now, let’s key the controller for the bag!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3699000"/>
            <a:ext cx="8058240" cy="232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1133640"/>
            <a:ext cx="624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14280" y="2971800"/>
            <a:ext cx="40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More on Tex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590580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Re-arrange the UV for your bag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o, you can easily draw texture late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8672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Arrange a good UV for your texture may take a while, but it will save you a lot of hassles later 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46360" y="1219320"/>
            <a:ext cx="649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You can use automatic UV unwrapp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or unwrap it combine different tech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uch as combine sphere, cylinder… (like this b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2666880"/>
            <a:ext cx="2133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It’s like making the cloth for your charact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2880" y="3505320"/>
            <a:ext cx="13716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5638680" cy="5092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579096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pply texture for your bag, eg: color, transparent, bumpma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838080"/>
            <a:ext cx="312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Color Textur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1752480"/>
            <a:ext cx="198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Same U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on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and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76720"/>
            <a:ext cx="167616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320" y="2590920"/>
            <a:ext cx="1600200" cy="19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9680" y="2057400"/>
            <a:ext cx="502920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14640" y="1219320"/>
            <a:ext cx="68580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4520" y="947880"/>
            <a:ext cx="7914960" cy="4962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Understand color textur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103640" cy="5029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760" y="22860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Understand transparent textur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74320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Black= transparent for the color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e darker, the more transparent it 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209680"/>
            <a:ext cx="144792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87692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54356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4572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Understand bump map textur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52680" y="2438280"/>
            <a:ext cx="198144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29000" y="5029200"/>
            <a:ext cx="198108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029200" cy="481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sign your sack, relate the sack to human bod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imaging each corner of the sack represents the arms and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1676520"/>
            <a:ext cx="3886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What kind of character 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Heavy/Light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Happy/Sad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What’s inside -- Water? Sand? Air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What kind of mo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648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sign your bag character –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76480" y="1695600"/>
            <a:ext cx="49910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648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sign your bag character –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76480" y="1695600"/>
            <a:ext cx="49910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4933800" cy="4456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5562360"/>
            <a:ext cx="4343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 Unicode"/>
              </a:rPr>
              <a:t>Model out your ba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6720" y="1371600"/>
            <a:ext cx="175284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066680"/>
            <a:ext cx="33526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Low Poly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720" y="2971800"/>
            <a:ext cx="27432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666880"/>
            <a:ext cx="2666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ubdiv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-Smooth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1055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Build up a 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skeleton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for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you can also use a 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lattice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to drive the animation in this kind of simple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501012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2438280" y="3200040"/>
            <a:ext cx="838440" cy="19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4952880" cy="447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743200" y="3504960"/>
            <a:ext cx="358128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257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Paint Weight to each b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-- which bone control how many percent of each vertices on th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8862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The B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86040" y="1905120"/>
            <a:ext cx="106668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16002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The Bone you are pai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67816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Build up dummy object to constrain your skeleton to control your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81520" cy="431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62720" y="39625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Leg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9718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Bell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2952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ar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962520" y="3276720"/>
            <a:ext cx="167616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33920" y="1600200"/>
            <a:ext cx="182880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657240" y="4114440"/>
            <a:ext cx="198108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Baggy Wal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59364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Think about walk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2117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flipV="1">
            <a:off x="761760" y="2971440"/>
            <a:ext cx="20574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2971440"/>
            <a:ext cx="2667240" cy="167652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285640" y="3048120"/>
            <a:ext cx="205740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19720" y="3048120"/>
            <a:ext cx="2666880" cy="167616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580920" y="3123720"/>
            <a:ext cx="20574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15000" y="3123720"/>
            <a:ext cx="2666880" cy="167652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7242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imilar pose, just left/right swit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562720"/>
            <a:ext cx="6781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Timing! Emotion!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s very important in Anim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19:32Z</dcterms:created>
  <dc:creator>dpumedia</dc:creator>
  <dc:description/>
  <dc:language>en-US</dc:language>
  <cp:lastModifiedBy>dpumedia</cp:lastModifiedBy>
  <dcterms:modified xsi:type="dcterms:W3CDTF">2003-04-30T21:51:13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0480109</vt:r8>
  </property>
  <property fmtid="{D5CDD505-2E9C-101B-9397-08002B2CF9AE}" pid="3" name="_AuthorEmail">
    <vt:lpwstr>yqwang@cs.depaul.edu</vt:lpwstr>
  </property>
  <property fmtid="{D5CDD505-2E9C-101B-9397-08002B2CF9AE}" pid="4" name="_AuthorEmailDisplayName">
    <vt:lpwstr>Wang, Yingqian</vt:lpwstr>
  </property>
  <property fmtid="{D5CDD505-2E9C-101B-9397-08002B2CF9AE}" pid="5" name="_EmailSubject">
    <vt:lpwstr/>
  </property>
</Properties>
</file>