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667E-2AF6-4FFC-8772-936E7FD59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F966-8DFE-4823-99C7-9F312769F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3956-A9E0-45CF-9217-3862ACD9C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9A18-DE86-44F2-8971-86E48750D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4D69-5CE1-48E7-9E75-AE8EF88E9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7236-978F-4A58-9A06-24A6B29BB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E5CB-6FAB-4D2F-9AF8-7B7EA1F48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44D7-50C7-4BD7-B031-450EF9B05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52F1-1EE8-4601-84FB-F11FDB12E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2932-042C-4934-BE2B-24DB2457E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E521-9444-4667-9909-0271464D9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245A-654D-44D5-9BDF-6422691C3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D6214-F644-45C0-8187-74CB75288F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Key Frame An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po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y how to get from one key to the other (inbetween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: stay at the same value, then suddenly swi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: change at constant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line/Smooth: make it smoo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of these (and more) are useful and appropriate in the right circum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ooth Interpo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838080" y="3809880"/>
            <a:ext cx="6302520" cy="2187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838080" y="1523880"/>
          <a:ext cx="5867640" cy="2100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1523880"/>
                    <a:ext cx="5867640" cy="21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7391520" y="2057400"/>
            <a:ext cx="12952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ft changes of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ar Interpo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09480" y="3809880"/>
            <a:ext cx="5923080" cy="2187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609480" y="1676520"/>
          <a:ext cx="5867640" cy="1911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1676520"/>
                    <a:ext cx="5867640" cy="19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7010280" y="1981080"/>
            <a:ext cx="167652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 changes of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ears to be contacting other objects, instant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Interpo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62120" y="3733920"/>
            <a:ext cx="6302160" cy="2187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1" name=""/>
          <p:cNvGraphicFramePr/>
          <p:nvPr/>
        </p:nvGraphicFramePr>
        <p:xfrm>
          <a:off x="914400" y="1447920"/>
          <a:ext cx="6019920" cy="2166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1447920"/>
                    <a:ext cx="6019920" cy="21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7391520" y="2209680"/>
            <a:ext cx="137160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 reappears in a totally different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very useful.  Wh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se In/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33520" y="3657600"/>
            <a:ext cx="4952880" cy="231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" name=""/>
          <p:cNvGraphicFramePr/>
          <p:nvPr/>
        </p:nvGraphicFramePr>
        <p:xfrm>
          <a:off x="457200" y="1217520"/>
          <a:ext cx="5029200" cy="221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217520"/>
                    <a:ext cx="5029200" cy="22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6400800" y="1371600"/>
            <a:ext cx="2209680" cy="46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vy objects take a while to get go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interpolation to emphasize thi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e in/out –or- Slow in/out means to leave the key slow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D An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nd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D Scene and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o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es: Video 30fps, Film 24f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istence of 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imator must create 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ion of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238720" y="2216160"/>
            <a:ext cx="28576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257800" y="3276720"/>
            <a:ext cx="285768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5257800" y="4343400"/>
            <a:ext cx="285768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most every property of every object in the scene can be animated (changed through tim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s, cameras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ormations: 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cations/Deformation: edits, bends, twists, manipulating a skelet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rials, colors, tex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D Scene does not ha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v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ons between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it of a li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must make it seem s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mary methods of An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Keyfr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du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ip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ynamics/Si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on Cap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ations of the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frame Work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K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ually extreme pos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 is more: Keys only the properties being ani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Interpo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y how to get from one key to anoth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ary, but a necessary ste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rub Time slider and refine motion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tting Ke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with extreme po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intermediate po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ary mo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 is 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add keys for properties that you are not anim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ier to manage/edit fewer k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tion Curves: Position vs. T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90720" y="3886200"/>
            <a:ext cx="7238880" cy="2513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"/>
          <p:cNvGraphicFramePr/>
          <p:nvPr/>
        </p:nvGraphicFramePr>
        <p:xfrm>
          <a:off x="914400" y="1219320"/>
          <a:ext cx="7315200" cy="2633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1219320"/>
                    <a:ext cx="7315200" cy="26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ion Cur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3885840"/>
            <a:ext cx="335268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is the box go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war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ste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6297480" cy="21859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876920" y="3733920"/>
            <a:ext cx="3352680" cy="29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bo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ing from stop or at re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pping at the end or continu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5T20:19:32Z</dcterms:created>
  <dc:creator>dpumedia</dc:creator>
  <dc:description/>
  <dc:language>en-US</dc:language>
  <cp:lastModifiedBy>ESedgwick</cp:lastModifiedBy>
  <dcterms:modified xsi:type="dcterms:W3CDTF">2003-04-09T20:37:40Z</dcterms:modified>
  <cp:revision>35</cp:revision>
  <dc:subject/>
  <dc:title>Slide 1</dc:title>
</cp:coreProperties>
</file>