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102-E1E2-42F8-9405-3BD73D7D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388-7EDB-41D3-8179-6E72B6E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331-6A6B-42CA-8D56-2F2BA632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0D4-002C-4F62-B851-EB517567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AEF-3C32-4172-ACBE-33E1D75E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70C-900E-44F2-AC14-7949AB6A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DF8-8DA4-4EAA-BD8E-6D6B90DC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226-164F-4F4C-8864-012D1BE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7A4-C31F-4D2C-8CD0-BAEE7EB3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DB0-42AF-4F9D-B616-6FC448B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CB2-52E4-494A-8C74-ABE30326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6D7-3FA6-4426-B828-37FA754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786932-02DC-4081-9680-22E11E15294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5880" t="34102" r="17827" b="33247"/>
          <a:stretch/>
        </p:blipFill>
        <p:spPr>
          <a:xfrm>
            <a:off x="0" y="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2590920"/>
            <a:ext cx="922032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 Musical Approach to Monophonic Audio Transcription and Quantization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08040" y="5872320"/>
            <a:ext cx="7042320" cy="777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Hentsch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Error Source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ed note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ave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zzicato (notes too short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4800" y="4778280"/>
            <a:ext cx="9136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0" t="0" r="0" b="34787"/>
          <a:stretch/>
        </p:blipFill>
        <p:spPr>
          <a:xfrm>
            <a:off x="-168120" y="-258840"/>
            <a:ext cx="10040760" cy="8721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set det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yph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udio Transcription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2505240"/>
            <a:ext cx="4930920" cy="157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1130400">
            <a:off x="6105240" y="3873600"/>
            <a:ext cx="2322360" cy="328140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2971800" y="3733560"/>
            <a:ext cx="2178720" cy="1127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lay improvi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ysis of perform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use in searching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1120" y="2244600"/>
            <a:ext cx="5732640" cy="4664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100240" y="6531120"/>
            <a:ext cx="5867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Pitch Tracking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ed on Boersma’s pitch tracking algorithm (praat_p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ified values for vio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quency range (190-350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ave cost val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cedUnvoicedC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Consolidation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s list of values from pitch tracker, finds notes, note duration, onse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etes probable extraneous notes (errors in pitch track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und veloc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ete end r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60880" y="4664160"/>
                <a:ext cx="35352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PM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olVar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Quantization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s musical ideas into conside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note c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note c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plets groups of thr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th, 8th, 12th, 16th n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ophonic - 1 note at a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ckup modif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4559" t="5853" r="2933" b="85784"/>
          <a:stretch/>
        </p:blipFill>
        <p:spPr>
          <a:xfrm>
            <a:off x="1393920" y="6735600"/>
            <a:ext cx="727056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7640" y="258840"/>
            <a:ext cx="2325960" cy="319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6705720" y="5527800"/>
            <a:ext cx="301788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verall, fairly good resul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verage accuracy violin: .7497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verage accuracy synth: .785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nge violin: (.3269-.9589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nge synth: (.4006-.9959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83% over .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-3826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71% over .7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774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8360" y="1541520"/>
          <a:ext cx="7829640" cy="579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41520"/>
                    <a:ext cx="78296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298000" y="3908520"/>
            <a:ext cx="168120" cy="171360"/>
          </a:xfrm>
          <a:prstGeom prst="diamond">
            <a:avLst/>
          </a:prstGeom>
          <a:solidFill>
            <a:srgbClr val="ff2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18600" y="3832200"/>
            <a:ext cx="6526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Violi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98000" y="4245120"/>
            <a:ext cx="168120" cy="171360"/>
          </a:xfrm>
          <a:prstGeom prst="rect">
            <a:avLst/>
          </a:prstGeom>
          <a:solidFill>
            <a:srgbClr val="fdf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15360" y="4179960"/>
            <a:ext cx="6616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ynt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44240" y="566640"/>
            <a:ext cx="61876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Violin v. Synth Transcription Resul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20:33:24Z</dcterms:created>
  <dc:creator>Jeff Hentschel</dc:creator>
  <dc:description/>
  <dc:language>en-US</dc:language>
  <cp:lastModifiedBy>Jeff Hentschel</cp:lastModifiedBy>
  <dcterms:modified xsi:type="dcterms:W3CDTF">2006-03-05T20:49:52Z</dcterms:modified>
  <cp:revision>12</cp:revision>
  <dc:subject/>
  <dc:title>A Musical Approach to Monophonic Audio Transcription and Quantization</dc:title>
</cp:coreProperties>
</file>